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227-C29C-4F77-95B9-C4D61C01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D46-9A79-41E9-B822-9A8F8D60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73C-12DC-4BF8-A99F-BB912A70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95D-078B-438A-B84C-777A46C4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7B9DC-2495-4013-812E-91748AC5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BDEC1-3B6D-45B5-B1A9-560AE8FB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C602D-FED5-4890-9A5E-3AFB5537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CEA14-5D54-43AC-AD5B-ADA2161F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70105-C430-4B1A-AA36-C0AE06E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44AF8-2B6E-445A-9B9A-E357FB94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712B9-ACE3-4CBC-ABDF-BF1D5224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951-B3CA-4983-9F3D-A844471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B9BFD-7876-446F-A9AA-9236711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0DB33-DA43-47A7-AD14-D89F390A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4AD9C-38A0-489A-817D-401ECD2A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73C7D-6BE6-4465-AC2B-804B19C6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8A9BE-FAE3-4F72-8BCB-9ADFE80B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0EBED-C3BE-41BB-89C3-D4E3DC40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E8FB-4C31-4B87-928F-61C7B3EF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19F9-F6BE-47C9-AFAD-14EF06A0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54D49-04FF-4F34-A267-2E03D2E7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4A7C-EC0F-4DD4-B4B0-E45F4869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550-D79F-4BD9-8782-B0E3BB5B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DCC20-1734-4143-91FE-4925AF33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B762-561C-413E-8498-D1CCEEA3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4286-C385-4507-A0CF-0F60E06B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6AEB-E88A-4807-8C66-5533FC7F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2BB41-07FC-420C-B2DF-B69E693F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AC5E-A0EE-4AD3-984B-E386755E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7DD1-928D-4FD3-826E-6612924A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37F-5384-4C37-9324-960641E4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E3B-A8B3-4929-B5F7-BF71AED1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88C-1FBC-46E1-A37B-9D20B1D3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0CC-D620-4848-9E92-06E715E6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F21-71D1-4C45-B822-5DDFB014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71F-798D-46EB-B9D0-5748BBE6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0921-ECD9-4135-BEA2-34447402F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E7AC-A50A-495B-9095-DBC48DF16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46F2-CCF1-4785-B24F-6B52C010A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ff"/>
                </a:solidFill>
                <a:latin typeface="Bradley Hand IT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Tahoma"/>
              </a:rPr>
              <a:t>By: Nicole Hil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52520" y="2265480"/>
            <a:ext cx="4638960" cy="23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e vacaciones a la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ican Republic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erida Aman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 llege a la hotel. Es muy bonita y grande. La playa preciosa. La piscina es muy grande. En el mar hay olas grandes. Hace cal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 todo mi carin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i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622680" cy="241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3695760"/>
            <a:ext cx="3686040" cy="276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124080" y="457200"/>
            <a:ext cx="2076480" cy="49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 Hot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99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Querido El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La playa es muy grande, y bonita. La arena es suave. Hoy tomamos el sol. Nosotros esqui aquatica en el mar. fuimos el surfing. Nosotros usamos crema protectora. Las olas son muy gran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Con todo mi carin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581280" y="0"/>
            <a:ext cx="163836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une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99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ida Fay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hace mal tiempo, y lleve. No fui a la playa. Fuimos a una pista de tenis cubierta. Un jugador gol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la pelota. La pelota pas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r encima de la red. Jugaron si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todo mi carino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 txBox="1"/>
          <p:nvPr/>
        </p:nvSpPr>
        <p:spPr>
          <a:xfrm>
            <a:off x="3657600" y="380880"/>
            <a:ext cx="1895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r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0099cc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da madd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y mis hermanas y yo fuimos a la tienda de ropa. Compramos nuevo traje de baño. Des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uimos a nadar en la piscina. Me gusta ir de compras. Una dia muy buen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todo mi carin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6094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Verdana"/>
              </a:rPr>
              <a:t>Mierco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695600"/>
            <a:ext cx="380988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Querida mi abu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Hoy fuimos a cenar, a un restaurante. Fui a Con mi familia. Un restaurant es muy elegante. Mi com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un jamon. Es muy delicioso. Despu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  <a:ea typeface="Arial"/>
              </a:rPr>
              <a:t>è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s de come helado. Tengo un helado chocolate. Me gusta un helado chocol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Con todo mi cari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Nic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05320" y="457200"/>
            <a:ext cx="2171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ueves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Querido mi abue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oy fui a la piscina cerca de hotel. Hace color. El sol brilla en el cielo. El buceo con mis hermanas. Me puse mi traje de baño. El agua est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á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caliente. Tomar el sol con mi hermana. Usar crema protect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n todo mi carin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6933960" cy="215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886200" y="533520"/>
            <a:ext cx="1724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ierne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9:51Z</dcterms:created>
  <dc:creator>hillnic</dc:creator>
  <dc:description/>
  <dc:language>en-US</dc:language>
  <cp:lastModifiedBy>hillnic</cp:lastModifiedBy>
  <dcterms:modified xsi:type="dcterms:W3CDTF">2011-11-30T17:02:51Z</dcterms:modified>
  <cp:revision>13</cp:revision>
  <dc:subject/>
  <dc:title> Me vacaDominican Republic </dc:title>
</cp:coreProperties>
</file>